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7D1-2617-4F64-AD71-516DFCF5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E15-3BEF-4748-8088-FE8DA40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04C-08DE-40B7-8550-9C9EBF29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A87-27A7-4E67-BC66-FB028534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A74-72D0-4C6B-A279-8CB377A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DC2-96E8-4E95-823F-40A5D244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436-0E5E-4973-A252-5FA2E10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251-E05A-4038-959E-BC5AE963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C77-1D0E-4073-8CD1-61400F1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34A-C22E-4280-B8D6-6C7373E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F74-95BC-4019-9FBD-091C83D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AC4-84AB-4503-AA98-6C1FC5B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522-CB95-4B03-B32C-2224456F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7IL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febr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ito # 51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tán haciendo Sandra y Anita en el aeropuerto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Dónde v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Tienes parientes que viven en otra ciu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Dónde v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Visitan ustedes a sus pari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van a s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295280" y="-76320"/>
            <a:ext cx="12191760" cy="716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647712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1430000" cy="762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676520"/>
            <a:ext cx="75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el PRE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219320" y="0"/>
            <a:ext cx="11506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orkbook p. 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5:10:00Z</dcterms:created>
  <dc:creator>Helen Zumaeta</dc:creator>
  <dc:description/>
  <dc:language>en-US</dc:language>
  <cp:lastModifiedBy>Helen Zumaeta</cp:lastModifiedBy>
  <dcterms:modified xsi:type="dcterms:W3CDTF">2013-02-04T18:58:36Z</dcterms:modified>
  <cp:revision>6</cp:revision>
  <dc:subject/>
  <dc:title>Me llamo _______ Clase 7IL La fecha es el 4 de febrero del 2013</dc:title>
</cp:coreProperties>
</file>